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006-E388-4251-A240-169C603B33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264E-ED3B-4455-A7F8-16501A7337D4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234-7CD4-4311-8D5B-3D98B8936B24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ECD-D627-4E94-959A-4540C88E8951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24A-5D94-4D52-A8A8-D839B4E8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9C7-9D74-45FC-9CA5-1711E2A2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B7F-0FA1-473F-AD0C-2CA02218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698-5306-4807-A87E-ED9C2724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CF87-8F32-4281-B671-E0A3A79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7A98-9AD2-455C-852B-9DA2492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9415-53D3-4470-B712-9E7866C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CCE-C2C8-4DB7-AD49-E735DE7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008-8460-420B-8E84-1C5A340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B425-BE80-4C52-91DC-F93285C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88D2-7954-4AAF-9B5A-199E537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226-7364-4F87-A79D-E41C00C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2E1-EEC2-4098-9BCC-504627A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6424-0736-42C6-B5EE-E02ADAB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D9A1-385B-4D0E-9EA7-ADEA464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6277-D8F5-4124-B485-DF85CB38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04B-202A-4C48-B94D-76339000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14A-7271-464E-9EEE-E65FFBB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B7A-9595-4E30-BE79-F26C203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D47-FB2D-45CC-A826-DA5FDCA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B06-46FC-461E-8A57-B520009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503-90E3-4784-A973-542031A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162-BD19-4477-B14D-864220F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4FC-B7B6-4934-8FD6-D994637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E902-E7B2-4743-9162-3022A715E3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D66C-2473-4B90-B75B-85D8AF63B674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етапредметность и ключевые компетентн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А.Ю. Пентин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Метапредметные результаты ФГОС и ключевые компетентности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наруживается большое сходство между пониманием метапредметных результатов в ФГОС и ключевыми компетентностям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гулятивные, познавательные и коммуникативные УУД, определяющие метапредметные результаты ФГОС, совпадают с тремя группами ключевых компетентностей, выделенными в международном проекте ОЭСР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Как достигать метапредметных результатов и измерять их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Меры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зменение требований к учебникам и УМК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Включение в программы учебных предметов планируемых метапредметных результатов и соответствующих видов деятельности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Построение учебного занятия, нацеленного на достижение не только предметных, но метапредметных результатов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Проектная деятельность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ценивание достижения метапредметных результатов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6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ahoma"/>
              </a:rPr>
              <a:t>Способы оценивания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Экспертиза на соответствие требованиям ФГОС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Экспертиза на уровне ОУ и обсуждение в профессиональном сообществ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Измерители???  Одна из форм – компетентностно-ориентированные задания, в т.ч. по образцу 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PISA</a:t>
            </a: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. </a:t>
            </a:r>
            <a:r>
              <a:rPr b="1" lang="ru-RU" sz="1800" spc="-1" strike="noStrike">
                <a:solidFill>
                  <a:srgbClr val="cc6600"/>
                </a:solidFill>
                <a:latin typeface="Tahoma"/>
              </a:rPr>
              <a:t>Нужны и другие!</a:t>
            </a: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Формы метапредметности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ы (новые учебные предметы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ные понят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ные ум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ы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чебные предметы, построенные на основе обобщенных способов деятельности, например, предметы «Знак», «Знание», «Проблема», «Задача», «Смысл», «Ситуация» и т.д. (Громыко и др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огут быть и другие варианты: «Учусь учиться» (Петерсон), «Методы научного исследования», «Решение проблем» и т.д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ные понят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нятия, имеющие надпредметный смысл, универсальное значение: время и пространство, порядок и хаос, движение, система, модель, случайность, символ, знак, … - список практически бесконечен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 основе метапредметных понятий можно реализовывать идею интеграции, строить интегрированные или межпредметные уроки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ные ум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то общеучебные умения, ключевые компетентности, универсальные учебные действия (УУД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новом стандарте (ФГОС) именно метапредметные умения лежат в основе т.н. </a:t>
            </a: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метапредметных результатов освоения основной образовательной программы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 иначе говоря,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апредметных результатов обучения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чем разница между действующим и новым стандартами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йствующий стандарт (федеральный компонент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язательный минимум содержания основных образовательных программ общего образования (по предметам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ребования к уровню подготовки выпускников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аксимальный объем учебной нагрузки обучающихс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600" y="1523520"/>
            <a:ext cx="4038480" cy="4496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Новый стандарт (ФГОС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результатам освоения основных образовательных программ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структуре основных образовательных программ (начального, основного и среднего (полного) общего образования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условиям реализации основных образовательных програм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Требования к результатам освоения основной образовательной программы ООО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личностным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: готовность и способность обучающихся к саморазвитию и личностному самоопределению, сформированность мотивации к обучению и целенаправленной познавательной деятельности, системы значимых социальных и межличностных отношений, ценностно-смысловых установок, отражающих личностные и гражданские позиции в деятельности, социальные </a:t>
            </a:r>
            <a:r>
              <a:rPr b="0" lang="ru-RU" sz="1600" spc="-1" strike="noStrike" u="sng">
                <a:solidFill>
                  <a:srgbClr val="40458c"/>
                </a:solidFill>
                <a:uFillTx/>
                <a:latin typeface="Tahoma"/>
              </a:rPr>
              <a:t>компетенции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, правосознание, способность ставить цели и строить жизненные планы, способность к осознанию российской в поликультурном социуме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метапредметным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: освоенные обучающимися метапредметные понятия и универсальные учебные действия, способность их использования в учебной, познавательной и социальной практике, самостоятельность планирования и осуществления учебной деятельности и организации учебного сотрудничества с педагогами и сверстниками, построение индивидуальной образовательной траектории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предметным: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 освоенные обучающимися умения специфические для данной предметной области, виды деятельности по получению нового знания в рамках учебного предмета, его преобразованию и применению в учебных, учебно-проектных и социально-проектных ситуациях, формирование научного типа мышления, научных представлений о ключевых теориях, типах и видах отношений, владение научной терминологией, ключевыми понятиями, методами и приемами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з глоссария ФГОС: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www.standart.edu.r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омпетенция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1) круг полномочий и прав, предоставляемых законом, уставом или договором конкретному лицу или организации в решении соответствующих вопрос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2) совокупность определенных знаний, умений и навыков, в которых человек должен быть осведомлен и иметь практический опыт работ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омпетентность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Умение активно использовать полученные личные и профессиональные знания и навыки в практической или научной деятельности. Различают образовательную, общекультурную, социальнотрудовую, информационную, коммуникативную, компетенции в сфере личностного самоопределения и др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Как выглядят требования к метапредметным результатам ФГОС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Некоторые из метапредметных результатов (ООО)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ahoma"/>
              </a:rPr>
              <a:t>умение самостоятельно определять цели своего обучения, ставить и формулировать для себя новые задачи в учебе и познавательной деятельности…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ahoma"/>
              </a:rPr>
              <a:t>умение самостоятельно планировать пути достижения целей, в том числе  альтернативные, осознанно выбирать наиболее эффективные способы решения учебных и познавательных задач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умение создавать, применять и преобразовывать знаки и символы, модели и схемы для решения учебных и познавательных задач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смысловое чтение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00"/>
                </a:solidFill>
                <a:latin typeface="Tahoma"/>
              </a:rPr>
              <a:t>умение организовывать учебное сотрудничество и совместную деятельность с учителем и сверстниками; работать индивидуально и в группе: находить общее решение и разрешать конфликты …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91320" y="15235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пособы оценивания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ыполнение индивидуального или группового учебного проекта (предусматривается ФГОС ООО и СОО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КИМы в рамках предметной аттестации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копительная оценка, портфолио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8:19:07Z</dcterms:created>
  <dc:creator>pentin</dc:creator>
  <dc:description/>
  <dc:language>en-US</dc:language>
  <cp:lastModifiedBy>pentin</cp:lastModifiedBy>
  <dcterms:modified xsi:type="dcterms:W3CDTF">2011-02-15T10:36:52Z</dcterms:modified>
  <cp:revision>63</cp:revision>
  <dc:subject/>
  <dc:title>Использование подходов PISA при разработке учебных заданий  к курсу «Естествознание» (10 – 11 кл.) </dc:title>
</cp:coreProperties>
</file>